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D9F-3BE9-44A1-916C-3CA779AD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F8F-C718-45AA-A6AF-A90F01C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EE1-4B30-4BD2-BD78-1689B16D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B62-A00E-4134-BB58-55E062F8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0DA-4DE9-42B8-811A-3CD2070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15-614F-4198-AEE2-C46C078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D41-5A78-4E50-96FB-AC152A7D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2AF-418D-4545-ABE0-0EF7F19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417-F33A-466D-8878-90F7FA1E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5F5-0CBF-4D8D-8C91-64A3826F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4D9-5167-4C8C-92FF-0CABC2A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1BE-B2E9-4EB4-A125-672F162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195-05F5-4D06-B6CC-5D6D39FA8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7;&#1083;&#1080;&#1090;&#1082;&#1072;.doc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358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1. Организовать деятельность учащихся на  изучение и закрепление свойства умножения и деления на 10,100, 0,1; 0,01 и умение применять их при решении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Показать применение действия деления на десятичную дробь в заданиях В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68360" y="36799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задачи В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1. Какое новое знание вы приобрели сегодня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Итог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28760" y="19288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2. Расскажите как разделить число на 0,1; 0,01; 0,001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39640" y="2781360"/>
            <a:ext cx="8358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45"/>
                </a:solidFill>
                <a:latin typeface="Arial"/>
              </a:rPr>
              <a:t>Как разделить число на 0,1; 0,01; 0,001 и т. д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Calibri"/>
                <a:ea typeface="Times New Roman"/>
              </a:rPr>
              <a:t>Чтобы разделить десятичную дробь на </a:t>
            </a:r>
            <a:r>
              <a:rPr b="0" lang="ru-RU" sz="40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0,1</a:t>
            </a:r>
            <a:r>
              <a:rPr b="0" lang="ru-RU" sz="4000" spc="-1" strike="noStrike">
                <a:solidFill>
                  <a:srgbClr val="cc0000"/>
                </a:solidFill>
                <a:latin typeface="Calibri"/>
                <a:ea typeface="Times New Roman"/>
              </a:rPr>
              <a:t>; </a:t>
            </a:r>
            <a:r>
              <a:rPr b="0" lang="ru-RU" sz="40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0,01;0,001</a:t>
            </a:r>
            <a:r>
              <a:rPr b="0" lang="ru-RU" sz="4000" spc="-1" strike="noStrike">
                <a:solidFill>
                  <a:srgbClr val="cc0000"/>
                </a:solidFill>
                <a:latin typeface="Calibri"/>
                <a:ea typeface="Times New Roman"/>
              </a:rPr>
              <a:t>  и т. д., надо перенести в ней запятую на столько цифр </a:t>
            </a:r>
            <a:r>
              <a:rPr b="1" lang="ru-RU" sz="4000" spc="-1" strike="noStrike">
                <a:solidFill>
                  <a:srgbClr val="cc0000"/>
                </a:solidFill>
                <a:latin typeface="Calibri"/>
                <a:ea typeface="Times New Roman"/>
              </a:rPr>
              <a:t>вправо</a:t>
            </a:r>
            <a:r>
              <a:rPr b="0" lang="ru-RU" sz="4000" spc="-1" strike="noStrike">
                <a:solidFill>
                  <a:srgbClr val="cc0000"/>
                </a:solidFill>
                <a:latin typeface="Calibri"/>
                <a:ea typeface="Times New Roman"/>
              </a:rPr>
              <a:t>, сколько стоит нулей перед единицей в делителе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34, № 929 (3, 4), 943 (1), 945, 9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dd36efffaaed"/>
          <p:cNvPicPr/>
          <p:nvPr/>
        </p:nvPicPr>
        <p:blipFill>
          <a:blip r:embed="rId1"/>
          <a:stretch/>
        </p:blipFill>
        <p:spPr>
          <a:xfrm>
            <a:off x="0" y="3571920"/>
            <a:ext cx="2357280" cy="30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Рисунок15"/>
          <p:cNvPicPr/>
          <p:nvPr/>
        </p:nvPicPr>
        <p:blipFill>
          <a:blip r:embed="rId2"/>
          <a:stretch/>
        </p:blipFill>
        <p:spPr>
          <a:xfrm>
            <a:off x="6732720" y="3645000"/>
            <a:ext cx="2232000" cy="321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928880" y="500040"/>
            <a:ext cx="5022720" cy="1776600"/>
          </a:xfrm>
          <a:prstGeom prst="wedgeRoundRectCallout">
            <a:avLst>
              <a:gd name="adj1" fmla="val -50305"/>
              <a:gd name="adj2" fmla="val 1229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1928880" y="785880"/>
            <a:ext cx="4824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СЕМ СПАСИБ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3643200" y="2500200"/>
            <a:ext cx="3807000" cy="1436760"/>
          </a:xfrm>
          <a:prstGeom prst="wedgeRoundRectCallout">
            <a:avLst>
              <a:gd name="adj1" fmla="val 54675"/>
              <a:gd name="adj2" fmla="val 107842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429000" y="2643120"/>
            <a:ext cx="44290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6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числите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17" descr=""/>
          <p:cNvPicPr/>
          <p:nvPr/>
        </p:nvPicPr>
        <p:blipFill>
          <a:blip r:embed="rId1"/>
          <a:stretch/>
        </p:blipFill>
        <p:spPr>
          <a:xfrm>
            <a:off x="189000" y="1620720"/>
            <a:ext cx="3591000" cy="476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64000" y="1699920"/>
            <a:ext cx="5046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,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Рисунок15"/>
          <p:cNvPicPr/>
          <p:nvPr/>
        </p:nvPicPr>
        <p:blipFill>
          <a:blip r:embed="rId2"/>
          <a:stretch/>
        </p:blipFill>
        <p:spPr>
          <a:xfrm>
            <a:off x="6572160" y="3214800"/>
            <a:ext cx="20811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6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Вычислите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640" y="1700280"/>
            <a:ext cx="374472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,56 ∙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,5 ∙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657 ∙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,56 ∙0,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,5 ∙0,0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,57 ∙ 0,00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14680" y="1714320"/>
            <a:ext cx="2281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5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,4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026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d36efffaaed"/>
          <p:cNvPicPr/>
          <p:nvPr/>
        </p:nvPicPr>
        <p:blipFill>
          <a:blip r:embed="rId1"/>
          <a:stretch/>
        </p:blipFill>
        <p:spPr>
          <a:xfrm>
            <a:off x="0" y="292428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м правило умножения десятичной дроби на 0,1; 0,01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3"/>
          <p:cNvSpPr/>
          <p:nvPr/>
        </p:nvSpPr>
        <p:spPr>
          <a:xfrm>
            <a:off x="426960" y="1557360"/>
            <a:ext cx="8290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множении десятичной дроби на 0,1;0,01; 0,001 и т. д.  запятая переносится 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вле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  столько цифр, сколько 0 содержится во множителе перед 1 (соответственно на 1,2,3, и т.д. циф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6 ∙0,01= 0,16;   2) 4,2 ∙ 0,01 = 0,0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е правило оно похо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57200" y="5157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разделить десятичную дробь на 10,100,1000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7"/>
          <p:cNvSpPr/>
          <p:nvPr/>
        </p:nvSpPr>
        <p:spPr>
          <a:xfrm>
            <a:off x="755640" y="404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разделить десятичную дробь на 10,100,1000 и т. д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7280" y="1483920"/>
            <a:ext cx="8353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елении десятичной дроби на 10;100;1000 и т. д. запятая переносится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лев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столько цифр, сколько содержится 0 во множителе после 1 (соответственно на 1,2,3, и т.д. циф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00000" y="30718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6 :10= 0,16;   2) 4,2 :100 = 0,0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 как умножить десятичную дробь на 10, 10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9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множении десятичной дроби на 10;100;1000 и т. д.  запятая переносится 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Arial"/>
              </a:rPr>
              <a:t>вправ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столько цифр, сколько содержится 0 во множителе после 1 (соответственно на 1,2,3, и т.д. циф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345 ∙100= 13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927000" y="3772080"/>
            <a:ext cx="77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к вы думаете, как разделить десятичную дробь на 0,1;0,01; 0,001 и т. д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466560"/>
            <a:ext cx="79912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Деление на 0,1; 0,01; 0,001 и т.д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onlinee.xyz/uploads/posts/2015-09/1442042577_allday_9.jpg"/>
          <p:cNvPicPr/>
          <p:nvPr/>
        </p:nvPicPr>
        <p:blipFill>
          <a:blip r:embed="rId1"/>
          <a:stretch/>
        </p:blipFill>
        <p:spPr>
          <a:xfrm>
            <a:off x="0" y="3071880"/>
            <a:ext cx="2008080" cy="37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cdn.tips-board.ru/images/kak_narisovat_neznajku_soveti_nachinayushim_hudozhnikam-2.jpg"/>
          <p:cNvPicPr/>
          <p:nvPr/>
        </p:nvPicPr>
        <p:blipFill>
          <a:blip r:embed="rId2"/>
          <a:stretch/>
        </p:blipFill>
        <p:spPr>
          <a:xfrm>
            <a:off x="5929200" y="3108240"/>
            <a:ext cx="32148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мотрите примеры деления на 0,1 ; 0,01; 0,001, сделайте 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3564000" y="22050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,56 :0,1 =125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,5 : 0,01 =345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657 : 0,001 =26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d36efffaaed"/>
          <p:cNvPicPr/>
          <p:nvPr/>
        </p:nvPicPr>
        <p:blipFill>
          <a:blip r:embed="rId1"/>
          <a:stretch/>
        </p:blipFill>
        <p:spPr>
          <a:xfrm>
            <a:off x="108000" y="3051000"/>
            <a:ext cx="251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всадник"/>
          <p:cNvPicPr/>
          <p:nvPr/>
        </p:nvPicPr>
        <p:blipFill>
          <a:blip r:embed="rId1"/>
          <a:stretch/>
        </p:blipFill>
        <p:spPr>
          <a:xfrm>
            <a:off x="5357880" y="4929120"/>
            <a:ext cx="1911240" cy="169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трава"/>
          <p:cNvPicPr/>
          <p:nvPr/>
        </p:nvPicPr>
        <p:blipFill>
          <a:blip r:embed="rId2"/>
          <a:stretch/>
        </p:blipFill>
        <p:spPr>
          <a:xfrm>
            <a:off x="2268360" y="6237360"/>
            <a:ext cx="1781280" cy="4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трава"/>
          <p:cNvPicPr/>
          <p:nvPr/>
        </p:nvPicPr>
        <p:blipFill>
          <a:blip r:embed="rId3"/>
          <a:stretch/>
        </p:blipFill>
        <p:spPr>
          <a:xfrm>
            <a:off x="2484360" y="6453360"/>
            <a:ext cx="1781280" cy="43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трава"/>
          <p:cNvPicPr/>
          <p:nvPr/>
        </p:nvPicPr>
        <p:blipFill>
          <a:blip r:embed="rId4"/>
          <a:stretch/>
        </p:blipFill>
        <p:spPr>
          <a:xfrm>
            <a:off x="3851280" y="6424560"/>
            <a:ext cx="1781280" cy="4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трава"/>
          <p:cNvPicPr/>
          <p:nvPr/>
        </p:nvPicPr>
        <p:blipFill>
          <a:blip r:embed="rId5"/>
          <a:stretch/>
        </p:blipFill>
        <p:spPr>
          <a:xfrm>
            <a:off x="5580000" y="6424560"/>
            <a:ext cx="1781280" cy="43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трава"/>
          <p:cNvPicPr/>
          <p:nvPr/>
        </p:nvPicPr>
        <p:blipFill>
          <a:blip r:embed="rId6"/>
          <a:stretch/>
        </p:blipFill>
        <p:spPr>
          <a:xfrm>
            <a:off x="6643800" y="6424560"/>
            <a:ext cx="1780920" cy="43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солнце2"/>
          <p:cNvPicPr/>
          <p:nvPr/>
        </p:nvPicPr>
        <p:blipFill>
          <a:blip r:embed="rId7"/>
          <a:stretch/>
        </p:blipFill>
        <p:spPr>
          <a:xfrm>
            <a:off x="0" y="0"/>
            <a:ext cx="1503360" cy="12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трава"/>
          <p:cNvPicPr/>
          <p:nvPr/>
        </p:nvPicPr>
        <p:blipFill>
          <a:blip r:embed="rId8"/>
          <a:stretch/>
        </p:blipFill>
        <p:spPr>
          <a:xfrm>
            <a:off x="900000" y="6237360"/>
            <a:ext cx="1781280" cy="4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трава"/>
          <p:cNvPicPr/>
          <p:nvPr/>
        </p:nvPicPr>
        <p:blipFill>
          <a:blip r:embed="rId9"/>
          <a:stretch/>
        </p:blipFill>
        <p:spPr>
          <a:xfrm>
            <a:off x="324000" y="6424560"/>
            <a:ext cx="1780920" cy="4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трава"/>
          <p:cNvPicPr/>
          <p:nvPr/>
        </p:nvPicPr>
        <p:blipFill>
          <a:blip r:embed="rId10"/>
          <a:stretch/>
        </p:blipFill>
        <p:spPr>
          <a:xfrm>
            <a:off x="4000680" y="6215040"/>
            <a:ext cx="1780920" cy="433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>
            <a:off x="7667640" y="652464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539640" y="100260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Чтобы разделить десятичную дробь на </a:t>
            </a:r>
            <a:r>
              <a:rPr b="0" lang="ru-RU" sz="32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0,1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; </a:t>
            </a:r>
            <a:r>
              <a:rPr b="0" lang="ru-RU" sz="32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0,01;0,001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  и т. д., надо перенести в ней запятую на столько цифр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вправо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, сколько стоит нулей перед единицей в делителе (или умножить делимое и делитель на </a:t>
            </a:r>
            <a:r>
              <a:rPr b="0" lang="ru-RU" sz="32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10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 , </a:t>
            </a:r>
            <a:r>
              <a:rPr b="0" lang="ru-RU" sz="32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100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 , </a:t>
            </a:r>
            <a:r>
              <a:rPr b="0" lang="ru-RU" sz="3200" spc="-1" strike="noStrike">
                <a:solidFill>
                  <a:srgbClr val="cc0000"/>
                </a:solidFill>
                <a:latin typeface="MathJax_Main-Web"/>
                <a:ea typeface="Times New Roman"/>
              </a:rPr>
              <a:t>1000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 и т. 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alibri"/>
                <a:ea typeface="Times New Roman"/>
              </a:rPr>
              <a:t>Если цифр не хватает, сначала надо приписать в конце десятичной дроби нули (сколько необходим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12:59Z</dcterms:created>
  <dc:creator>Ульянова Антонина Николаевна</dc:creator>
  <dc:description/>
  <dc:language>en-US</dc:language>
  <cp:lastModifiedBy>teacher</cp:lastModifiedBy>
  <dcterms:modified xsi:type="dcterms:W3CDTF">2022-03-29T01:51:35Z</dcterms:modified>
  <cp:revision>107</cp:revision>
  <dc:subject/>
  <dc:title>Нам радостно, нам весело</dc:title>
</cp:coreProperties>
</file>